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65D-E409-4FEC-9940-1B56C463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3FA-C338-4A79-80A2-F29E9BC5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8D0-5087-4ABE-A912-0EE58E94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BCA-909C-4BEB-9312-5026717E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DD8-CA36-45F6-8F58-0608EEA8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0CE-55B0-411C-A2DC-0FCFF5CB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0E1-F883-41D1-BC02-114BB05B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0F2-DBD1-4DC9-9CE5-72AFDF1D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8A6D-1C16-48BE-BF68-07D5B6FD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F3A-6EAC-47F8-B6F4-502890D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7F4-F2D1-4F42-B828-0A62FF21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24EC-86BD-44A5-966A-11CB5C3A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BCFD-977E-4E7E-8C42-D4AF952D2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209680"/>
            <a:ext cx="838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erties of Linear Fun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827360"/>
            <a:ext cx="7620120" cy="534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280" y="152280"/>
            <a:ext cx="8763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1.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your graph, show (i.e., label) th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intercept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intercept and use the slope to find one additional point.  Use your graph to answer par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781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33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990720" y="2502000"/>
                <a:ext cx="41907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ve the inequality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257800" cy="291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304920"/>
            <a:ext cx="65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2.  Use the average rate of change to determine if population is a linear function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39760" y="533520"/>
            <a:ext cx="5856120" cy="1004760"/>
            <a:chOff x="239760" y="533520"/>
            <a:chExt cx="5856120" cy="100476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39760" y="533520"/>
              <a:ext cx="5856120" cy="10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333440"/>
            <a:ext cx="8686800" cy="1409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066680" y="2379600"/>
            <a:ext cx="7278840" cy="447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280" y="76320"/>
            <a:ext cx="8763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se the average rate of change to determine if heart-rate is a linear function of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2860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057400"/>
            <a:ext cx="69339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8658360" cy="64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91120" y="763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52280" y="4210200"/>
            <a:ext cx="3581640" cy="380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52280" y="4856040"/>
            <a:ext cx="5943600" cy="390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52280" y="5424480"/>
            <a:ext cx="2819520" cy="382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28600" y="6033960"/>
            <a:ext cx="601992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758440" cy="1523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124080" y="2279520"/>
            <a:ext cx="2743200" cy="1030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5477040" cy="38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0" y="3657600"/>
            <a:ext cx="8915400" cy="1552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91120" y="763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0" y="5286240"/>
            <a:ext cx="8906040" cy="657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0" y="6099120"/>
            <a:ext cx="76201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8-01-21T01:56:08Z</dcterms:modified>
  <cp:revision>9</cp:revision>
  <dc:subject/>
  <dc:title>Slide 1</dc:title>
</cp:coreProperties>
</file>